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055-EAAE-4410-BDCE-E7FD9F63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F9C-6C44-4AF9-9A63-7E945AD1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A14-F877-4047-B9EF-439F8755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E36-3AFC-409D-8437-0084B8CC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6891-9341-4218-908F-5D9A929F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F882-362D-4A4B-A37F-936277B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2AA0-5B2A-47DD-AE79-21649B66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EA3A-B5A2-4B0D-87BF-0C745D4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9E42-B1AE-4171-980F-521C032A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7305-8EDD-400D-A792-AB7DD3CC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D53F-27FA-4195-B446-C3A4863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9DB-7C46-4A1F-93C9-A605B13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2B85-61FE-499B-8C80-6BA0C5C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69A-56CD-4DF1-9C14-5645AFA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E142-2F23-4795-84C8-E07324E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DB96-84A0-4121-866A-F66106E5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BD5-23C4-4E42-AFFE-644AEA50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29EF-7E29-4B9E-BF2C-49B841D5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EBC5-DE6B-4E6F-80C1-91465925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D395-A4F1-4086-BB16-977DF772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F2D9-AEC1-48C4-A062-C30A61CD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5460-A394-4E2E-8E09-4CC369E6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513-E2C3-4BC8-A0E9-E6739BD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E516-01FF-4AEB-A9F6-02AB755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2412-4C6A-49C5-899E-5989574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2CED-B067-4DAE-8815-7E86A89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6F6D-D63D-4415-999A-CE41CA6E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816E-E808-4D31-B03C-F0BEBF0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7292-C883-4429-9137-69E027A7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E744-5987-42B2-9271-22BAEF8A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D190-40A9-40F0-9CA3-F4F8D8D7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E42E-AF55-455D-9EF6-65E2C32E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D5BBF-D65A-4925-B684-D2C238C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9C5-DD6C-4277-93A7-5896FD0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69CC-AB14-45A1-B73B-114916B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DF5E-7F60-4FDF-8B40-F460D4F1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BC9F-E6D4-437E-AAB3-4A6929E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A814-15FA-4B22-9018-1EB1F5E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940E-20D2-4A24-BD74-6C27D5D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340D1-E1D4-4A12-AF17-17B2539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5C79-97DF-418F-B100-D593BFE9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ECA8-1EBA-46EC-A256-D4C99955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304D-4373-4BC2-91F6-80D052BD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64A6F-3DE3-4BA6-A6C1-97942FF9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BDA-0B04-4753-886E-F650B1D9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E716-F02B-441C-A25F-641A0F4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C592-51C6-45FF-8D17-16DE1AD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C015-9A07-45FF-9C20-8F36FAC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44EEB-57C5-455F-8B5C-84CBD70F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C623-A7F5-4919-8107-3502D5C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79C3-7CB0-4863-ABA4-C31EF19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1C7B-6D28-4544-80B2-FCBC874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AD965-3D16-4E9B-9176-7A32AD6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EA77-71CB-4AD9-9ADF-0E39929A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D1CB-5408-467C-8FA7-0585112F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AC-47FE-414E-B361-AF938E41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40B36-243D-47B4-8E95-3D0AD8D6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1771-AF12-4C98-AAA4-EB1E9024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67BE-48DD-4804-8BC8-04EA075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12AB-5995-4A55-9B14-7C703B7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24DC-B309-43E4-AA09-5C57BCE5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FFBEF-338E-4EAF-BACD-4FC6C6B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6029-3318-4F35-9968-3C2C2B8E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1F22-AF95-43A2-A973-07CEB55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75D7-AD00-4D3F-B28C-D46252D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FCE74-EE0D-40FA-9C41-0452D10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F4A-3C88-4462-9C15-B74F4A47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57AE-7DF6-47F8-BCE8-D4731AE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98AF-77F6-4790-BEFC-349823F3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A835-29AF-44C5-92B0-FC8BF37D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0F5-C09E-4480-B253-79CE4DA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EF8-FEEB-4006-BFCB-7F9307BA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F521-B357-445D-B269-2007ACAF277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59EA-3288-42A9-8BFE-746F8D12BBC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65A9-45F1-427B-891B-A032234D89D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3A7-B53E-4BED-A4AB-731C6A04386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10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44EA-C354-4688-9DD8-FFE74EAFF8A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7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EBC-E2A3-4CA3-9B3F-3AD60B09AE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4 CuadroTexto"/>
          <p:cNvSpPr/>
          <p:nvPr/>
        </p:nvSpPr>
        <p:spPr>
          <a:xfrm>
            <a:off x="324000" y="1197000"/>
            <a:ext cx="8280360" cy="51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n regiones de clima continental con gran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mplitud térm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 Dominan las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situaciones anticiclón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por lo que las precipitaciones son escasas (por debajo de 250 mm anuales). En estas condiciones, el agente más habitual es el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vient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aunque el agua, cuando hace su aparición, suele tener efectos importantes, dada la escasez en la cubierta veget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s zonas desérticas de los trópicos y de las zonas templadas se ajustan bien a este sistema, de manera que los grandes desiertos se localizan, mayoritariamente a ambos lados de los trópicos, en las regiones cálidas predominantemente anticiclónic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or la ausencia de vegetación, el impacto del agua es muy acusado tras las escasas pero intensas precipit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escasa humedad ambiental hace que el efecto de la meteorización química sea muy limitado, dominando la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meteorización mecánic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, en la que los procesos habituales s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 Amplitud térmica, de hasta 60 ºC entre el día y la noche. Da lugar a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enómenos de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rmoclast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 Cristalización de sales. Existen sales disueltas en el agua, qu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ristalizan por efecto de la intensa evaporación. Esto produce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haloclast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ISTEMA MORFOCLIMÁTICO ÁR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Introducción (continuación)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1628640"/>
            <a:ext cx="784872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cción del viento se suma a la descamación producida por la meteorización mecánica y la intensa insolación. El viento, además transporta materiales en suspensión, cuya presencia aumenta el efecto del desgaste. El proceso de erosión debido al viento y los materiales que transporta se denomina corrasión e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impactos que provocan los materiales en suspensión sobre las superficies rocosas contra las que chocan generan las siguientes formas erosivas: nidos de abejas, taffonis, uad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bién acumulaciones salinas como eflorescencias y cal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último veremos la estructura de un desierto con un núcleo rocoso central donde actúa la erosión eólica, un desierto pedregoso, donde la erosión y el transporte dejan las rocas desnudas, y un desierto arenoso producto de la sedim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fectos de la erosión eól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68360" y="42926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idos de abej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Aquí el viento con partículas en suspensión juega el papel fundamental. La roca presenta a priori zonas más débiles donde hay más abundancia de materiales blan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4581360"/>
            <a:ext cx="295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ff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on de una escala mucho mayor que los nidos de abejas (metros), y en su formación –además del v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viene el contenido en sal de la escasa humedad ambiental y un proceso cíclico de humectación-dese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132000" y="1125360"/>
            <a:ext cx="4954680" cy="33735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Tafoni en el desierto de Atacama, entre Caldera y Chañarl (geología - sedimentología)"/>
          <p:cNvPicPr/>
          <p:nvPr/>
        </p:nvPicPr>
        <p:blipFill>
          <a:blip r:embed="rId3"/>
          <a:stretch/>
        </p:blipFill>
        <p:spPr>
          <a:xfrm>
            <a:off x="6084720" y="4562640"/>
            <a:ext cx="27910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fectos de la erosión eól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3" name="" descr="File:NachalParan1.jpg"/>
          <p:cNvPicPr/>
          <p:nvPr/>
        </p:nvPicPr>
        <p:blipFill>
          <a:blip r:embed="rId1"/>
          <a:stretch/>
        </p:blipFill>
        <p:spPr>
          <a:xfrm>
            <a:off x="395280" y="1268280"/>
            <a:ext cx="5610240" cy="42087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227640" y="1700280"/>
            <a:ext cx="2737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a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n valles con cauces producidos por una acumulación de agua que, después de grandes precipitaciones, permanecen secos casi todo el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en acumular una gran cantidad de fragmentos en el fo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Acumulaciones salina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1197000"/>
            <a:ext cx="8353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 los sistemas áridos, la intensa evaporación diurna del agua infiltrada hace que las sales disueltas asciendan y se concentren en la superficie o cerca de ella constituyendo diversas formacion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alich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acumulaciones de Ca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n el subsuelo por el arrastre de aguas carbonatadas con las precipit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ciones minerales de yeso de forma lenticular llamadas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Rosas del desiert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florescencias salin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acumulaciones de sales del tipo de los cloruros o como el yeso, de color blanquecino formadas por el ascenso por capilaridad del agua con sales disuelt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5280" y="4048200"/>
            <a:ext cx="3960720" cy="26510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63640" y="34178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796000" y="43657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236000" y="303048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structura de los desierto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25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ctuación de los distintos agentes en las diferentes áreas del desierto origina una morfología típica que, desde el centro a la periferia se distribuy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2060640"/>
            <a:ext cx="20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ierto roco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Núcleo central del desierto formado por grandes bloques rocosos abundantes en taffonis, nidos de abejas y grie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11892" t="0" r="9503" b="0"/>
          <a:stretch/>
        </p:blipFill>
        <p:spPr>
          <a:xfrm>
            <a:off x="108000" y="3952800"/>
            <a:ext cx="5256000" cy="2755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084720" y="198900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Desierto de piedras con fragmentos rocos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12000" y="2565360"/>
            <a:ext cx="2381040" cy="17146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626080" y="4581360"/>
            <a:ext cx="3122640" cy="2078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627280" y="1773360"/>
            <a:ext cx="2735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structura de los desiertos (continuación)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1557360"/>
            <a:ext cx="316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r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Desierto de arena con dunas, especialmente barjanes o dunas semicirculares en forma de media l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162864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pósitos de Lo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n sedimentos de grano más fino que la arena. Se sitúa en la periferia del desi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68720" cy="2130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79280" y="4941720"/>
            <a:ext cx="2519640" cy="16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3492360" y="2924280"/>
          <a:ext cx="5467320" cy="36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924280"/>
                    <a:ext cx="546732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Estructura del desierto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07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31:07Z</dcterms:created>
  <dc:creator>Pedro F Martinez</dc:creator>
  <dc:description/>
  <dc:language>en-US</dc:language>
  <cp:lastModifiedBy>Rafael Moreno</cp:lastModifiedBy>
  <dcterms:modified xsi:type="dcterms:W3CDTF">2012-10-24T23:26:42Z</dcterms:modified>
  <cp:revision>86</cp:revision>
  <dc:subject/>
  <dc:title>AGENTES GEOLÓGICOS EXTERNOS</dc:title>
</cp:coreProperties>
</file>